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6B9A-A889-433E-9DBF-FF13E3DC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C8DB-4888-46F5-9A47-429172DC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B3E-2136-4312-82C6-89BC3BBE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5E7-3FA0-4090-BCE5-F49F9D64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CF2-8728-4FF1-9E48-FBF83818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322-9AE7-422E-A7F6-461F2D29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D185-E49E-465D-AF6F-A4B2294E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5C5-244A-4C85-B1A3-E39340E2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97E-0813-4E73-B076-58EC390E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3B28-71D6-4BF4-88A8-585A1547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079-3CDF-4A8C-832D-B99AEE61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F52-BE2E-46A6-BF4F-5B574D9C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5371-36B3-461C-B9F0-32D001DA7E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i1.wp.com/prusakam.net/wp-content/uploads/2018/03/6-12.jpg" TargetMode="External"/><Relationship Id="rId2" Type="http://schemas.openxmlformats.org/officeDocument/2006/relationships/hyperlink" Target="https://static.vecteezy.com/system/resources/previews/000/359/936/original/a-tree-with-a-beehive-surrounded-by-bees-vector.jpg" TargetMode="External"/><Relationship Id="rId3" Type="http://schemas.openxmlformats.org/officeDocument/2006/relationships/hyperlink" Target="http://sad14.slonim.edu.by/ru/sm_full.aspx?guid=24843" TargetMode="External"/><Relationship Id="rId4" Type="http://schemas.openxmlformats.org/officeDocument/2006/relationships/hyperlink" Target="https://nsportal.ru/sites/default/files/2018/06/12/2947fa9ae500b50b9fdb93e75cdc15f8.jpg" TargetMode="External"/><Relationship Id="rId5" Type="http://schemas.openxmlformats.org/officeDocument/2006/relationships/hyperlink" Target="https://med39.ru/deti/help/osa.jpg" TargetMode="External"/><Relationship Id="rId6" Type="http://schemas.openxmlformats.org/officeDocument/2006/relationships/hyperlink" Target="https://img2.freepng.ru/20180324/gxe/kisspng-insect-honey-bee-bee-5ab6c04b649718.863542111521926219412.jpg" TargetMode="External"/><Relationship Id="rId7" Type="http://schemas.openxmlformats.org/officeDocument/2006/relationships/hyperlink" Target="https://prusakam.net/wp-content/uploads/2018/05/1.jpg" TargetMode="External"/><Relationship Id="rId8" Type="http://schemas.openxmlformats.org/officeDocument/2006/relationships/hyperlink" Target="http://chemistry-chemists.com/N4_2015/S2/vespiary-29.jpg" TargetMode="External"/><Relationship Id="rId9" Type="http://schemas.openxmlformats.org/officeDocument/2006/relationships/hyperlink" Target="https://static.vecteezy.com/system/resources/previews/000/474/681/original/vector-bees-flying-around-beehive-on-the-tree.jpg" TargetMode="External"/><Relationship Id="rId10" Type="http://schemas.openxmlformats.org/officeDocument/2006/relationships/hyperlink" Target="https://scribble.su/school-literature/extracurricular-reading/extracurricular-reading.files/image006.jpg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11280" y="5331600"/>
            <a:ext cx="8207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7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Monotype Corsiva"/>
              </a:rPr>
              <a:t>Шепеленко Татьяна Анатольевн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Monotype Corsiva"/>
              </a:rPr>
              <a:t>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Monotype Corsiva"/>
              </a:rPr>
              <a:t>Персональный сайт: </a:t>
            </a:r>
            <a:r>
              <a:rPr b="1" lang="en-US" sz="2600" spc="-1" strike="noStrike">
                <a:solidFill>
                  <a:srgbClr val="009900"/>
                </a:solidFill>
                <a:latin typeface="Monotype Corsiva"/>
              </a:rPr>
              <a:t>www.shepelenko.ucoz.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68360" y="-242640"/>
            <a:ext cx="8207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7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Monotype Corsiva"/>
              </a:rPr>
              <a:t>Муниципальное казённое образовательное учреж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Monotype Corsiva"/>
              </a:rPr>
              <a:t>Рамонская средняя общеобразовательная школа №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Monotype Corsiva"/>
              </a:rPr>
              <a:t>Рамонского муниципальн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Monotype Corsiva"/>
              </a:rPr>
              <a:t>Воронеж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Рисунок1"/>
          <p:cNvPicPr/>
          <p:nvPr/>
        </p:nvPicPr>
        <p:blipFill>
          <a:blip r:embed="rId1"/>
          <a:stretch/>
        </p:blipFill>
        <p:spPr>
          <a:xfrm>
            <a:off x="2268360" y="177624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8"/>
          <p:cNvSpPr/>
          <p:nvPr/>
        </p:nvSpPr>
        <p:spPr>
          <a:xfrm>
            <a:off x="250920" y="189000"/>
            <a:ext cx="87138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ало пчелы надо вытащить, после чего смазать место укуса йодом или зелён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630360" y="1341360"/>
            <a:ext cx="7954920" cy="53038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65" name="Рисунок 3" descr=""/>
          <p:cNvPicPr/>
          <p:nvPr/>
        </p:nvPicPr>
        <p:blipFill>
          <a:blip r:embed="rId2"/>
          <a:stretch/>
        </p:blipFill>
        <p:spPr>
          <a:xfrm>
            <a:off x="1332000" y="141300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8"/>
          <p:cNvSpPr/>
          <p:nvPr/>
        </p:nvSpPr>
        <p:spPr>
          <a:xfrm>
            <a:off x="250920" y="189000"/>
            <a:ext cx="87138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ычно осу можно отогнать как муху. Но иногда оса и жал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722160" y="1052640"/>
            <a:ext cx="7770960" cy="51433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8"/>
          <p:cNvSpPr/>
          <p:nvPr/>
        </p:nvSpPr>
        <p:spPr>
          <a:xfrm>
            <a:off x="250920" y="189000"/>
            <a:ext cx="87138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а, в отличие от пчелы, обычно не оставляет жала в теле человека, но укусы её не менее болезнен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665280" y="1268280"/>
            <a:ext cx="7885080" cy="52563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8"/>
          <p:cNvSpPr/>
          <p:nvPr/>
        </p:nvSpPr>
        <p:spPr>
          <a:xfrm>
            <a:off x="250920" y="189000"/>
            <a:ext cx="87138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ы делают гнёзда в самых разных местах. Таких, где их не тревожат ни люди, ни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1222200" y="1268280"/>
            <a:ext cx="6770880" cy="53737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8"/>
          <p:cNvSpPr/>
          <p:nvPr/>
        </p:nvSpPr>
        <p:spPr>
          <a:xfrm>
            <a:off x="250920" y="189000"/>
            <a:ext cx="87138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можете обнаружить осиное гнездо на балко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960480" y="1052640"/>
            <a:ext cx="7294680" cy="54133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8"/>
          <p:cNvSpPr/>
          <p:nvPr/>
        </p:nvSpPr>
        <p:spPr>
          <a:xfrm>
            <a:off x="250920" y="189000"/>
            <a:ext cx="87138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!!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 в коем случае осиное гнездо нельзя трог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880920" y="907920"/>
            <a:ext cx="7453440" cy="55897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0" y="115920"/>
            <a:ext cx="9144000" cy="33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Monotype Corsiva"/>
                <a:ea typeface="Calibri"/>
              </a:rPr>
              <a:t>Использованные 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https://i1.wp.com/prusakam.net/wp-content/uploads/2018/03/6-1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2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https://static.vecteezy.com/system/resources/previews/000/359/936/original/a-tree-with-a-beehive-surrounded-by-bees-vector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3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3"/>
              </a:rPr>
              <a:t>http://sad14.slonim.edu.by/ru/sm_full.aspx?guid=2484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4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4"/>
              </a:rPr>
              <a:t>https://nsportal.ru/sites/default/files/2018/06/12/2947fa9ae500b50b9fdb93e75cdc15f8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5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5"/>
              </a:rPr>
              <a:t>https://med39.ru/deti/help/osa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6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6"/>
              </a:rPr>
              <a:t>https://img2.freepng.ru/20180324/gxe/kisspng-insect-honey-bee-bee-5ab6c04b649718.86354211152192621941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7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7"/>
              </a:rPr>
              <a:t>https://prusakam.net/wp-content/uploads/2018/05/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8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8"/>
              </a:rPr>
              <a:t>http://chemistry-chemists.com/N4_2015/S2/vespiary-29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9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9"/>
              </a:rPr>
              <a:t>https://static.vecteezy.com/system/resources/previews/000/474/681/original/vector-bees-flying-around-beehive-on-the-tree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0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0"/>
              </a:rPr>
              <a:t>https://scribble.su/school-literature/extracurricular-reading/extracurricular-reading.files/image006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s://doktorbiene.de/wp-content/uploads/2018/08/Apitherapie-Bienengift-Stichtechniken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2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s://mamadoktor.ru/wp-content/uploads/2015/10/iod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3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s://yy5zymc9.user.webaccel.jp/wp-content/uploads/2019/06/pixta_1579731_M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14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ttps://media.istockphoto.com/photos/wasp-picture-id172323455?k=6&amp;m=172323455&amp;s=612x612&amp;w=0&amp;h=bZW997mwNjP9ex4nd5QBTrnv_VXMSz7hkbMRXPZR-Ns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-6480" y="242100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9900"/>
                </a:solidFill>
                <a:latin typeface="Monotype Corsiva"/>
                <a:ea typeface="Calibri"/>
              </a:rPr>
              <a:t>Осторожно: пчёлы и осы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250920" y="189000"/>
            <a:ext cx="87138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ус пчелы или осы, как правило, не опасен. Но укусы нескольких десятков пчёл или ос могут угрожать ваше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50920" y="6237360"/>
            <a:ext cx="87138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этом случае без лекарства и врача не обойти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0" t="0" r="0" b="4875"/>
          <a:stretch/>
        </p:blipFill>
        <p:spPr>
          <a:xfrm>
            <a:off x="2106720" y="1336680"/>
            <a:ext cx="5002200" cy="45831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250920" y="189000"/>
            <a:ext cx="87138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!!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когда не лезьте в гнёзда диких ос или в ульи на пас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630360" y="1197000"/>
            <a:ext cx="7954920" cy="51274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50" name="Прямая соединительная линия 3"/>
          <p:cNvSpPr/>
          <p:nvPr/>
        </p:nvSpPr>
        <p:spPr>
          <a:xfrm>
            <a:off x="1258920" y="836640"/>
            <a:ext cx="6842160" cy="5832360"/>
          </a:xfrm>
          <a:prstGeom prst="line">
            <a:avLst/>
          </a:prstGeom>
          <a:ln w="66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6"/>
          <p:cNvSpPr/>
          <p:nvPr/>
        </p:nvSpPr>
        <p:spPr>
          <a:xfrm flipH="1">
            <a:off x="774360" y="836640"/>
            <a:ext cx="7480440" cy="5832360"/>
          </a:xfrm>
          <a:prstGeom prst="line">
            <a:avLst/>
          </a:prstGeom>
          <a:ln w="66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8"/>
          <p:cNvSpPr/>
          <p:nvPr/>
        </p:nvSpPr>
        <p:spPr>
          <a:xfrm>
            <a:off x="250920" y="189000"/>
            <a:ext cx="87138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чела жалит человека, только если он представляет для неё угро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1754280" y="1341360"/>
            <a:ext cx="5707080" cy="52023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8"/>
          <p:cNvSpPr/>
          <p:nvPr/>
        </p:nvSpPr>
        <p:spPr>
          <a:xfrm>
            <a:off x="250920" y="189000"/>
            <a:ext cx="87138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чела может ужалить, просто наткнувшись на человека в полё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762960" cy="45050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8"/>
          <p:cNvSpPr/>
          <p:nvPr/>
        </p:nvSpPr>
        <p:spPr>
          <a:xfrm>
            <a:off x="250920" y="189000"/>
            <a:ext cx="87138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пчела кружит вокруг вас, то, скорее всего, ей не нравится ваш запах, и она собирается ужал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50920" y="6093000"/>
            <a:ext cx="87138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е лучшее в такой ситуации – замереть на месте и прис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534440" cy="46054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8"/>
          <p:cNvSpPr/>
          <p:nvPr/>
        </p:nvSpPr>
        <p:spPr>
          <a:xfrm>
            <a:off x="250920" y="189000"/>
            <a:ext cx="87138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!!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и в коем случае нельзя махать руками и беж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1878120" y="981000"/>
            <a:ext cx="5459400" cy="54453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8"/>
          <p:cNvSpPr/>
          <p:nvPr/>
        </p:nvSpPr>
        <p:spPr>
          <a:xfrm>
            <a:off x="250920" y="189000"/>
            <a:ext cx="87138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пчела кусает, её жало остаётся в теле человека, а сама она погиб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1225440" y="1413000"/>
            <a:ext cx="6764400" cy="51102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7:43:07Z</dcterms:created>
  <dc:creator>user</dc:creator>
  <dc:description/>
  <dc:language>en-US</dc:language>
  <cp:lastModifiedBy>user</cp:lastModifiedBy>
  <dcterms:modified xsi:type="dcterms:W3CDTF">2020-01-10T13:14:28Z</dcterms:modified>
  <cp:revision>204</cp:revision>
  <dc:subject/>
  <dc:title>Слайд 1</dc:title>
</cp:coreProperties>
</file>